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80BF-03C8-4C1D-A368-BB1F87559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60199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752480" y="4721760"/>
            <a:ext cx="60199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A1D1-CFAC-45C9-85E0-27231550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7320" y="388584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52480" y="472176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7320" y="472176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7DE5-EC9C-4BCD-8C30-4337A14E7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19382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7920" y="3885840"/>
            <a:ext cx="19382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23720" y="3885840"/>
            <a:ext cx="19382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752480" y="4721760"/>
            <a:ext cx="19382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87920" y="4721760"/>
            <a:ext cx="19382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23720" y="4721760"/>
            <a:ext cx="19382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905A-550B-402E-82AF-0AECA3A3B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83AB-B506-4700-B942-48E5CC3DF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52480" y="388584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4002-62D8-4D57-9974-1EC48723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31AA-C2F1-43AD-AE3A-46342B49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2937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7320" y="3885840"/>
            <a:ext cx="2937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7113-EE16-42D7-BB70-632F6DE9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D794-08AC-42C5-A725-C428708A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52120" y="2285640"/>
            <a:ext cx="6705720" cy="49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D08D-1D1F-4C78-81CD-B4A4E60A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7320" y="3885840"/>
            <a:ext cx="2937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752480" y="472176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1C4E-F02B-43A1-9B1D-AE8DD1CF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752480" y="388584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91CD-CF89-4769-8AA5-6F3368A3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2937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7320" y="388584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37320" y="472176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6A27-F9CC-40C8-9960-A5447249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37320" y="388584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52480" y="4721760"/>
            <a:ext cx="60199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5ECF-051F-48B5-BB30-1BE0D48E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60199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752480" y="4721760"/>
            <a:ext cx="60199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0010-D6F2-479F-B8DD-B0BC3896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7320" y="388584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52480" y="472176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37320" y="472176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DA88-BB7E-48F1-856A-8D40F82EE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19382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87920" y="3885840"/>
            <a:ext cx="19382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23720" y="3885840"/>
            <a:ext cx="19382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752480" y="4721760"/>
            <a:ext cx="19382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87920" y="4721760"/>
            <a:ext cx="19382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23720" y="4721760"/>
            <a:ext cx="19382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A849-F912-4C33-A35F-F9692F470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C162-AB5C-40B1-B2A1-6EEFFBA0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2937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7320" y="3885840"/>
            <a:ext cx="2937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8D21-F79C-47AD-B293-A547E602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8CCC-E246-4611-9B5D-39D4DBA4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52120" y="2285640"/>
            <a:ext cx="6705720" cy="49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DA98-EAC8-4296-8353-9CF2BAF3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7320" y="3885840"/>
            <a:ext cx="2937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752480" y="472176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F339-8F19-47ED-B2F2-12948688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2937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7320" y="388584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7320" y="472176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78E7-A8B6-4BF6-A429-E0866085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7320" y="3885840"/>
            <a:ext cx="29376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52480" y="4721760"/>
            <a:ext cx="60199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21AE-A226-49D4-A6D6-660E3596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8284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600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C373-7D06-4B77-9392-3CEADAEB3B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EC49-E64B-4EC8-85FC-71F4EE1B1A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03640" y="659772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752480" y="388584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6:37Z</dcterms:modified>
  <cp:revision>37</cp:revision>
  <dc:subject/>
  <dc:title>幻灯片 1</dc:title>
</cp:coreProperties>
</file>